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707-492F-4D30-AECB-4AC72A74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A3F-F4FE-44BA-A01B-190E860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EC6-1749-449A-BF2D-6C24200C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20C-C2C1-4377-9373-187D4C1F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446-74F7-40E9-9E14-C66B514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61A-56EE-4E11-BE74-ABE9100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6BC-5A40-42EA-B34B-1165448A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5C2-FD7C-4C37-B8A6-67415184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D5D-DD34-4887-8A4E-5BC67B2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6D0-8CE0-432C-9D9E-F6D83BE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245-7BFE-43B9-A577-041BCEED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211-4CD3-4C36-8D91-9A1ADADE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E49B-53AA-437A-83D0-A55294A90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95" name=""/>
          <p:cNvSpPr/>
          <p:nvPr/>
        </p:nvSpPr>
        <p:spPr>
          <a:xfrm>
            <a:off x="0" y="5851440"/>
            <a:ext cx="9144000" cy="1008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6000" spc="-1" strike="noStrike">
                <a:solidFill>
                  <a:srgbClr val="ffffff"/>
                </a:solidFill>
                <a:latin typeface="Tahoma"/>
              </a:rPr>
              <a:t>ПРАВЕДНОСТ ЧРЕЗ ВЯ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876920"/>
            <a:ext cx="914400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 както Мойсей издигна змията в пустинята, така трябва да бъде издигнат Човешкият Син, та всеки, който вярва в Него, да не погине, но да има вечен живот.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Йоан 3:14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bg-BG" sz="4000" spc="-1" strike="noStrike">
                <a:solidFill>
                  <a:srgbClr val="ff0000"/>
                </a:solidFill>
                <a:latin typeface="Tahoma"/>
              </a:rPr>
              <a:t>СТИНСКА ВЯ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6520" y="620640"/>
            <a:ext cx="501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2Коринтяни 5:14,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41360"/>
            <a:ext cx="709308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щото Христовата любов ни принуждава, като разсъждаваме така, че понеже един е умрял за всички, то всички са умрели; и че Той умря за всички, за да не живеят живите за себе си, но за Този, Който за тях е умрял и възкръсна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2484360" y="1844640"/>
          <a:ext cx="4543560" cy="33908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844640"/>
                    <a:ext cx="45435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724360" y="3848040"/>
            <a:ext cx="3419640" cy="3009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3068640" cy="31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295280"/>
            <a:ext cx="45720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всички станахме като човек нечист и цялата ни правда е като омърсена дреха; ние всички вехнем като лист и нашите беззакония ни завличат като вятъ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627120"/>
            <a:ext cx="335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сая 64: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762120"/>
            <a:ext cx="2895840" cy="641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ук е нужно търпението на светиите, на тези, които пазят Божиите заповеди и вярата в Исус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Откр.14: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1197000"/>
            <a:ext cx="7772400" cy="509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ледователно, п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в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ещо, което трябва да знаем з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сти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к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че тя с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аш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чов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ш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тклик на евангелс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ест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я винаги трябва да 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движима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о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любо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дълбока 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деч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изнателно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къ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4876920"/>
            <a:ext cx="5715000" cy="184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ъвършен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любов и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ъж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трах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страхът има в себе си наказание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(1 Ин. 4:18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63640" y="627120"/>
            <a:ext cx="2745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ahoma"/>
              </a:rPr>
              <a:t>О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ткр. 3: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28800"/>
            <a:ext cx="392436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неже казваш: Богат съм, забогатях и нямам нужда от нищо, а не знаеш, че си окаян, нещастен, сиромах, сляп и го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189000"/>
            <a:ext cx="5945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9933"/>
                </a:solidFill>
                <a:latin typeface="Tahoma"/>
              </a:rPr>
              <a:t>Грехът създаде три тягостни реалност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200320"/>
            <a:ext cx="8820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)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ината и наказанието на грех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б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илата и робството на грех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)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Природата и присъствието на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грех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08000" y="426960"/>
            <a:ext cx="568836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Спасителна</a:t>
            </a: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 вя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133720"/>
            <a:ext cx="6781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 Познание на истин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76520" y="620640"/>
            <a:ext cx="501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Римляни 10: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828800"/>
            <a:ext cx="60195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 така, вярата е от слушане, а слушането - от Христовото сло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89000"/>
            <a:ext cx="586728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щ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знаете исти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и истин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ще ви направ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ободни..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                   Ак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инът ви освободи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сти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ще бъде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обод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(Ин. 8:32—36)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05360"/>
            <a:ext cx="59403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това е вечен жив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д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н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Те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еди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сти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 Бог, и Исуса Христа,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огото си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зпратил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(Ин. 17:3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76520" y="620640"/>
            <a:ext cx="501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Римляни 10:2,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76520"/>
            <a:ext cx="601956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идетелству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м за тях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ревност по Бо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амо ч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 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ред пълното знани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Понеже, ако не зная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, която е от Бог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скат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ста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ята, те не се покориха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а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76520" y="620640"/>
            <a:ext cx="501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Ефесяни 4: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о действащи истинно в                 любов, да пораснем по                             всичко в Него, Който е                   главата, Христос, от Когото             цялото  тяло, сглобявано и          свързано чрез службата на                всяка става, според съразмерното действие на всяка една част,      изработва растенето на тялото               за своето назидание в любовта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52480" y="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0574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знание на истина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352680"/>
            <a:ext cx="6477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Вяра в истина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333360"/>
            <a:ext cx="56898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Спасителна</a:t>
            </a: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 вя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00000" y="1447920"/>
            <a:ext cx="351972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п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ва [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вангел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]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р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и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ще бъд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пасе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9933"/>
                </a:solidFill>
                <a:latin typeface="Tahoma"/>
              </a:rPr>
              <a:t>М</a:t>
            </a:r>
            <a:r>
              <a:rPr b="0" i="1" lang="bg-BG" sz="4000" spc="-1" strike="noStrike">
                <a:solidFill>
                  <a:srgbClr val="ff9933"/>
                </a:solidFill>
                <a:latin typeface="Tahoma"/>
              </a:rPr>
              <a:t>ар</a:t>
            </a:r>
            <a:r>
              <a:rPr b="0" i="1" lang="ru-RU" sz="4000" spc="-1" strike="noStrike">
                <a:solidFill>
                  <a:srgbClr val="ff9933"/>
                </a:solidFill>
                <a:latin typeface="Tahoma"/>
              </a:rPr>
              <a:t>. 16: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76520" y="620640"/>
            <a:ext cx="501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Римляни 1: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828800"/>
            <a:ext cx="449568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ай-напред благодаря на Бога чрез Исуса Христа за всички ви, дето за вашата вяра се говори по целия свя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676520" y="620640"/>
            <a:ext cx="5019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Римляни 1: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990720" y="1828800"/>
            <a:ext cx="6477120" cy="503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лагодарение Богу,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като бяхте слуги на греха, вие се покорихте от сърце на оня образец на вероучението, в който бяхте обучени и освободени от грех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нахте слуги на правд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89000"/>
            <a:ext cx="61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Спасителна</a:t>
            </a: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 вя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7772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знание на истина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352680"/>
            <a:ext cx="6477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Вяра в истина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662360"/>
            <a:ext cx="8077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. Послушание на истинат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76320"/>
            <a:ext cx="9144000" cy="109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ccecff"/>
                </a:solidFill>
                <a:latin typeface="Tahoma"/>
              </a:rPr>
              <a:t>ОПРАВДАНИЕ, ОСВЕЩЕНИЕ И ПРОСЛАВЯН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228960" y="6149880"/>
            <a:ext cx="960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ccecff"/>
                </a:solidFill>
                <a:latin typeface="Tahoma"/>
              </a:rPr>
              <a:t>РИУМФ НА БОЖИЯТА НЕОБЯТНА ЛЮБ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36640"/>
            <a:ext cx="644364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ffcc"/>
                </a:solidFill>
                <a:latin typeface="Tahoma"/>
              </a:rPr>
              <a:t>А които предопредели, тях и призова;              а които призова,        тях и оправда,              а които оправда,        тях и прослав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9933"/>
                </a:solidFill>
                <a:latin typeface="Tahoma"/>
              </a:rPr>
              <a:t>Рим. 8: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295280" y="609480"/>
            <a:ext cx="540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cc99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Галатяни 2:19,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523880"/>
            <a:ext cx="556236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ъразпнах се 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и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ега не вече аз живея, но Христос живее в мене; а животът, който сега живея в тялото, живея го с вярата, която е в Божия Син, Който ме възлюби и предаде Себе Си за ме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95280" y="609480"/>
            <a:ext cx="5400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9933"/>
                </a:solidFill>
                <a:latin typeface="Times New Roman"/>
              </a:rPr>
              <a:t>       </a:t>
            </a:r>
            <a:r>
              <a:rPr b="0" lang="ru-RU" sz="4000" spc="-1" strike="noStrike">
                <a:solidFill>
                  <a:srgbClr val="ff9933"/>
                </a:solidFill>
                <a:latin typeface="Tahoma"/>
              </a:rPr>
              <a:t>Рим. 6: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773360"/>
            <a:ext cx="556236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а и вие считайте себе с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мъртви към греха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живи към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Бога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 Хри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су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ашия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оспо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14479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8806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447920"/>
            <a:ext cx="5105160" cy="377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ангелието въплъщава принцип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 u="sng">
                <a:solidFill>
                  <a:srgbClr val="ffffcc"/>
                </a:solidFill>
                <a:uFillTx/>
                <a:latin typeface="Tahoma"/>
              </a:rPr>
              <a:t>“</a:t>
            </a:r>
            <a:r>
              <a:rPr b="0" lang="bg-BG" sz="4000" spc="-1" strike="noStrike" u="sng">
                <a:solidFill>
                  <a:srgbClr val="ffffcc"/>
                </a:solidFill>
                <a:uFillTx/>
                <a:latin typeface="Tahoma"/>
              </a:rPr>
              <a:t>Не аз, </a:t>
            </a:r>
            <a:r>
              <a:rPr b="0" lang="bg-BG" sz="4000" spc="-1" strike="noStrike" u="sng">
                <a:solidFill>
                  <a:srgbClr val="ff0000"/>
                </a:solidFill>
                <a:uFillTx/>
                <a:latin typeface="Tahoma"/>
              </a:rPr>
              <a:t>но Христо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9933"/>
                </a:solidFill>
                <a:latin typeface="Tahoma"/>
              </a:rPr>
              <a:t>Гал. 2: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371600" y="-27000"/>
            <a:ext cx="77724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винаги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устремена 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предел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цел. Це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на истинск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я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наги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ос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гов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яс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 нищ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 мож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да бъд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даже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от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ш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рез вярата ние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дин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 Хрис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та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Негов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да стан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ша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гов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ил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казва д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за на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 какво значи да си под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лагодат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6095880"/>
            <a:ext cx="7391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Значение</a:t>
            </a:r>
            <a:r>
              <a:rPr b="1" lang="bg-BG" sz="4400" spc="-1" strike="noStrike">
                <a:solidFill>
                  <a:srgbClr val="ff9933"/>
                </a:solidFill>
                <a:latin typeface="Tahoma"/>
              </a:rPr>
              <a:t>то на</a:t>
            </a: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 в</a:t>
            </a:r>
            <a:r>
              <a:rPr b="1" lang="bg-BG" sz="4400" spc="-1" strike="noStrike">
                <a:solidFill>
                  <a:srgbClr val="ff9933"/>
                </a:solidFill>
                <a:latin typeface="Tahoma"/>
              </a:rPr>
              <a:t>я</a:t>
            </a:r>
            <a:r>
              <a:rPr b="1" lang="ru-RU" sz="4400" spc="-1" strike="noStrike">
                <a:solidFill>
                  <a:srgbClr val="ff9933"/>
                </a:solidFill>
                <a:latin typeface="Tahoma"/>
              </a:rPr>
              <a:t>р</a:t>
            </a:r>
            <a:r>
              <a:rPr b="1" lang="bg-BG" sz="4400" spc="-1" strike="noStrike">
                <a:solidFill>
                  <a:srgbClr val="ff9933"/>
                </a:solidFill>
                <a:latin typeface="Tahoma"/>
              </a:rPr>
              <a:t>а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71600" y="0"/>
            <a:ext cx="77724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ойто им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сти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тел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Хрис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, ще бъде повлиян да 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оя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с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ведение, чрез пре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щия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Библи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вава такъ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пре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щ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нас, «плодъ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уха» </a:t>
            </a: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(Гал. 5:22)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Апостол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ов на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вав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 пло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в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- дел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я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. Яков 2:14-2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6095880"/>
            <a:ext cx="7391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9933"/>
                </a:solidFill>
                <a:latin typeface="Tahoma"/>
              </a:rPr>
              <a:t>Дела на вя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71600" y="0"/>
            <a:ext cx="7772400" cy="62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ел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п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кона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наги с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гоизъ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наги с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скверн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от нашето собствен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 независимо от 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о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да изглеждат за нас и за другите твърд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ивлекателни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ш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п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кон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итра форм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 бун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отив Бога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чки таки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ела, в действителн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е извършва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зависимо от Него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г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щ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и 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 дела 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еззакон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(М</a:t>
            </a:r>
            <a:r>
              <a:rPr b="0" i="1" lang="bg-BG" sz="3600" spc="-1" strike="noStrike">
                <a:solidFill>
                  <a:srgbClr val="ff9933"/>
                </a:solidFill>
                <a:latin typeface="Tahoma"/>
              </a:rPr>
              <a:t>ат</a:t>
            </a:r>
            <a:r>
              <a:rPr b="0" i="1" lang="ru-RU" sz="3600" spc="-1" strike="noStrike">
                <a:solidFill>
                  <a:srgbClr val="ff9933"/>
                </a:solidFill>
                <a:latin typeface="Tahoma"/>
              </a:rPr>
              <a:t>. 7:21—23; Лк. 13:25—28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6095880"/>
            <a:ext cx="7391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ccff"/>
                </a:solidFill>
                <a:latin typeface="Tahoma"/>
              </a:rPr>
              <a:t>Дела по зак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05120" y="609480"/>
            <a:ext cx="389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9933"/>
                </a:solidFill>
                <a:latin typeface="Tahoma"/>
              </a:rPr>
              <a:t>имляни 1:16,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447920"/>
            <a:ext cx="9144000" cy="55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щото не се срамувам от благовестиет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онеже е Божия сила за спас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 всекиго, който вярва …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в него се откр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авдата, която е от Б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рез вяра към вя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акто е пис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Праведния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                 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чрез вя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bg-BG" sz="4400" spc="-1" strike="noStrike">
                <a:solidFill>
                  <a:srgbClr val="ff0000"/>
                </a:solidFill>
                <a:latin typeface="Tahoma"/>
              </a:rPr>
              <a:t>ще живее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0066"/>
                </a:solidFill>
                <a:latin typeface="Tahoma"/>
              </a:rPr>
              <a:t>   “</a:t>
            </a:r>
            <a:r>
              <a:rPr b="0" lang="bg-BG" sz="3600" spc="-1" strike="noStrike">
                <a:solidFill>
                  <a:srgbClr val="ff0066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обективно евангелие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убективно евангел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1 Кор.1:30,31 Еф.1:3-6,2:13; Фил.3:9     </a:t>
            </a:r>
            <a:r>
              <a:rPr b="0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вменена праведност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057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Завършено дело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 завършено де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ff"/>
                </a:solidFill>
                <a:latin typeface="Tahoma"/>
              </a:rPr>
              <a:t>1 Кор.6:11; Еф. 1:3; Кол. 2:10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Рим.5:3-5; 8:18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1Кор.15:51-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3726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ccff"/>
                </a:solidFill>
                <a:latin typeface="Tahoma"/>
              </a:rPr>
              <a:t>У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ниверсално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Персонално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ff"/>
                </a:solidFill>
                <a:latin typeface="Tahoma"/>
              </a:rPr>
              <a:t>Рим.5:18;2Кор.5:18,19;1Ин.2:2.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 Рим.8:9,10;2Кор.3:17,18;6:14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5616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Вън от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ътре в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lang="bg-BG" sz="2400" spc="-1" strike="noStrike">
                <a:solidFill>
                  <a:srgbClr val="ffccff"/>
                </a:solidFill>
                <a:latin typeface="Tahoma"/>
              </a:rPr>
              <a:t>Рим.3:21,28; Фил. 3:9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н.15:1-5;17:23; Рим.8:9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791320"/>
            <a:ext cx="9220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Дава награда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емонстрира 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ff"/>
                </a:solidFill>
                <a:latin typeface="Tahoma"/>
              </a:rPr>
              <a:t>Деян.13:39; Рим.3:28; Гал.2:16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Мат.5:14-16;Ин.13:34,35; 14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5268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76320" y="5715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bg-BG" sz="36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0" lang="bg-BG" sz="3600" spc="-1" strike="noStrike">
                <a:solidFill>
                  <a:srgbClr val="ff0066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обективно евангелие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убективно евангел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1 Кор.1:30,31 Еф.1:3-6,2:13; Фил.3:9     </a:t>
            </a:r>
            <a:r>
              <a:rPr b="0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вменена праведност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429000"/>
            <a:ext cx="937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5561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133720"/>
            <a:ext cx="4195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Tahoma"/>
              </a:rPr>
              <a:t>Б</a:t>
            </a:r>
            <a:r>
              <a:rPr b="0" lang="bg-BG" sz="4800" spc="-1" strike="noStrike">
                <a:solidFill>
                  <a:srgbClr val="ffccff"/>
                </a:solidFill>
                <a:latin typeface="Tahoma"/>
              </a:rPr>
              <a:t>ожията перспектива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0000"/>
                </a:solidFill>
                <a:latin typeface="Tahoma"/>
              </a:rPr>
              <a:t>спасени  по благода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133720"/>
            <a:ext cx="4191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овешката перспектива -       </a:t>
            </a:r>
            <a:r>
              <a:rPr b="0" lang="bg-BG" sz="4800" spc="-1" strike="noStrike">
                <a:solidFill>
                  <a:srgbClr val="ffffff"/>
                </a:solidFill>
                <a:latin typeface="Tahoma"/>
              </a:rPr>
              <a:t>спасени чрез вяр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300640"/>
            <a:ext cx="4500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ccff"/>
                </a:solidFill>
                <a:latin typeface="Tahoma"/>
              </a:rPr>
              <a:t>безуслов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300640"/>
            <a:ext cx="3456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услов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5561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791320"/>
            <a:ext cx="922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5920"/>
            <a:ext cx="9144000" cy="673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Ис. 55:8,9 -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т път и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с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несравнимо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по-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с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от наш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1Кор. 1:17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 18  -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Евангели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ка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 к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т са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езумие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пл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с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у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Иоан 6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7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9933"/>
                </a:solidFill>
                <a:latin typeface="Tahoma"/>
              </a:rPr>
              <a:t>13  -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С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т Дух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а не наш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разум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рябва да ни води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ъм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истин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Освен, 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че 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Евангелие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противоречи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чове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шки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разум, 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има и о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ще 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един проблем,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с който трябва да се съобразим и това е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всички ние сме грешни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ц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лишен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и от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слав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От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грехопадени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ето на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Адам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човечество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то се намира под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робств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ото на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греха и без спас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яващата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благодат в Исус Христ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ос, то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безнадежно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 би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 поги</a:t>
            </a:r>
            <a:r>
              <a:rPr b="0" i="1" lang="bg-BG" sz="2600" spc="-1" strike="noStrike">
                <a:solidFill>
                  <a:srgbClr val="ffffcc"/>
                </a:solidFill>
                <a:latin typeface="Tahoma"/>
              </a:rPr>
              <a:t>нало</a:t>
            </a:r>
            <a:r>
              <a:rPr b="0" i="1" lang="ru-RU" sz="2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Ето защо,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пл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ътският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ум никога не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 ще 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при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еме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Божествен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ата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истин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а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, 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ако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Св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е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т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ият Дух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не ни нашепва Свое</a:t>
            </a:r>
            <a:r>
              <a:rPr b="0" i="1" lang="bg-BG" sz="2600" spc="-1" strike="noStrike" u="sng">
                <a:solidFill>
                  <a:srgbClr val="ffffcc"/>
                </a:solidFill>
                <a:uFillTx/>
                <a:latin typeface="Tahoma"/>
              </a:rPr>
              <a:t>то</a:t>
            </a:r>
            <a:r>
              <a:rPr b="0" i="1" lang="ru-RU" sz="2600" spc="-1" strike="noStrike" u="sng">
                <a:solidFill>
                  <a:srgbClr val="ffffcc"/>
                </a:solidFill>
                <a:uFillTx/>
                <a:latin typeface="Tahoma"/>
              </a:rPr>
              <a:t> откровен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429000"/>
            <a:ext cx="9372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561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89000"/>
            <a:ext cx="9144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акви са условията от човешка гледна точка за преживяване опитността на оправданието, освещението и прославянет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55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5561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791320"/>
            <a:ext cx="922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i="1" lang="bg-BG" sz="3200" spc="-1" strike="noStrike">
                <a:solidFill>
                  <a:srgbClr val="ff0000"/>
                </a:solidFill>
                <a:latin typeface="Tahoma"/>
              </a:rPr>
              <a:t>1. </a:t>
            </a:r>
            <a:r>
              <a:rPr b="0" i="1" lang="bg-BG" sz="3200" spc="-1" strike="noStrike" u="sng">
                <a:solidFill>
                  <a:srgbClr val="ff0000"/>
                </a:solidFill>
                <a:uFillTx/>
                <a:latin typeface="Tahoma"/>
              </a:rPr>
              <a:t>Вярата</a:t>
            </a:r>
            <a:r>
              <a:rPr b="0" i="1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(Йоан 3:16).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ова е условието за преживяване на “оправдания живот”, който Христос дава на всички чрез Своето послушание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(Рим.5:18).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“Праведният чрез вяра ще живее”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(Евр. 10:3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i="1" lang="bg-BG" sz="3200" spc="-1" strike="noStrike">
                <a:solidFill>
                  <a:srgbClr val="ff0000"/>
                </a:solidFill>
                <a:latin typeface="Tahoma"/>
              </a:rPr>
              <a:t>2.  </a:t>
            </a:r>
            <a:r>
              <a:rPr b="0" i="1" lang="bg-BG" sz="3200" spc="-1" strike="noStrike" u="sng">
                <a:solidFill>
                  <a:srgbClr val="ff0000"/>
                </a:solidFill>
                <a:uFillTx/>
                <a:latin typeface="Tahoma"/>
              </a:rPr>
              <a:t>Ходене по Духа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(Гал.5:16; Рим.13:14)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е условие за преживяване на осветения живот, който Христос живя за грешното човечество чрез Своя свят живот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(1Кор.1:2; 6:11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i="1" lang="bg-BG" sz="3200" spc="-1" strike="noStrike">
                <a:solidFill>
                  <a:srgbClr val="ff0000"/>
                </a:solidFill>
                <a:latin typeface="Tahoma"/>
              </a:rPr>
              <a:t>3. </a:t>
            </a:r>
            <a:r>
              <a:rPr b="0" i="1" lang="bg-BG" sz="3200" spc="-1" strike="noStrike" u="sng">
                <a:solidFill>
                  <a:srgbClr val="ff0000"/>
                </a:solidFill>
                <a:uFillTx/>
                <a:latin typeface="Tahoma"/>
              </a:rPr>
              <a:t>Нашата вяра трябва да издържи  докрай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9933"/>
                </a:solidFill>
                <a:latin typeface="Tahoma"/>
              </a:rPr>
              <a:t>(Мат.10:22; Евр.10:38,39).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Това е условието да получим прославено тяло, като това на Христос, когато възкръсна и с което се възнесе на небе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0000"/>
                </a:solidFill>
                <a:latin typeface="Tahoma"/>
              </a:rPr>
              <a:t>   “</a:t>
            </a:r>
            <a:r>
              <a:rPr b="0" lang="bg-BG" sz="3600" spc="-1" strike="noStrike">
                <a:solidFill>
                  <a:srgbClr val="ff0000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ff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обективно евангелие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убективно евангел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1 Кор.1:30,31 Еф.1:3-6,2:13; Фил.3:9     </a:t>
            </a:r>
            <a:r>
              <a:rPr b="0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вменена праведност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9000">
            <a:off x="-738360" y="3260880"/>
            <a:ext cx="61866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Оправд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0000"/>
                </a:solidFill>
                <a:latin typeface="Tahoma"/>
              </a:rPr>
              <a:t>чрез вя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559200">
            <a:off x="3936960" y="3276720"/>
            <a:ext cx="5486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bg-BG" sz="5400" spc="-1" strike="noStrike">
                <a:solidFill>
                  <a:srgbClr val="ffffff"/>
                </a:solidFill>
                <a:latin typeface="Tahoma"/>
              </a:rPr>
              <a:t>раведност чрез вяр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18:53:48Z</dcterms:created>
  <dc:creator>D.N.T.</dc:creator>
  <dc:description/>
  <dc:language>en-US</dc:language>
  <cp:lastModifiedBy>zxy</cp:lastModifiedBy>
  <dcterms:modified xsi:type="dcterms:W3CDTF">2003-08-15T12:43:34Z</dcterms:modified>
  <cp:revision>24</cp:revision>
  <dc:subject/>
  <dc:title>No Slide Title</dc:title>
</cp:coreProperties>
</file>